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52D6-3399-4AFF-A908-F687BE65A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0A3B-DB02-49FE-A796-8E5CEB0D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E983-AE1F-4534-980B-68EF5AB62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F175-9A77-4E16-B8EE-CDFD4AF25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347F-9F7B-4B5B-891D-CF87EEE3A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3B25-1D63-4D00-862E-A600B1044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5B7F-0304-4879-A6C5-08CC0B46F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C322-BB23-4265-8BBC-A7F1815B2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CE6B-66EB-4EC4-811B-C368B188E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0A8F-222C-4A33-BC1C-890EE98B7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EEB-1F55-4EB7-B63C-0F17ACF5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A71-0C1D-47A9-B1E1-8CBD5AFB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F9B-A501-4C7D-BD27-7223C7B3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C51-150F-4BEC-9019-DBE339CD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ECDE-8857-44BF-9F56-35CDCA3D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E147-4654-4F78-B42C-F66A0D30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DEE4-F28A-4DB5-8D9E-A8CD6EBB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4803-226D-4383-BDBE-F8A63B91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65AA-87E7-4F4B-AB03-7460FD11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1B63-CABF-4472-B7C4-D31E8112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80F3-D0F9-4E34-BDA1-10541AAC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E6F-838B-4746-9C23-3DBDF19A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60F8-9E20-4A6A-82AB-596A3E99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5FFA-9B7A-465D-85B8-40C8C05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FD3D-8DB8-4179-8C64-5C546990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8A58-62B3-4D86-9F9D-8A5FA45B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BEF3-545B-4442-BD65-99C44AED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427E-C517-4C2D-85DC-C79509F5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9897E-FF5F-4E35-B629-4C3961B9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3CC6-BF1A-40D9-85E9-FAE5840F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77881-710D-4064-AC7C-AC0BDE07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BC106-0B79-4132-AF6B-47CD28EC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D9C-39B5-49CB-96FF-CFD42C9C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BAC6-EB57-40F4-AD52-4743BCCC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D1FF1-A6F0-458B-AD50-B2773A66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7D9ED-BBB1-4201-B7DF-84CCE057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89183-40F9-4873-8937-79364413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5CF76-7593-4709-8B39-A08E6F72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C76D-083F-4500-B717-CAA98BCD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5CB5B-C530-4EAB-B14A-D519FCDE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4A97-A874-4ECC-9A90-30765FEF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EDAB7-A7A4-4AB2-AE71-26DF9AC7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7A06B-6B2D-46FC-8BB9-EC1472C1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FFE-ADE4-4793-AB1E-F2BFD955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5F24-433C-41F3-99A6-7457A263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4A47B-3A36-4B4F-871E-AC181E0C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2BFDB-8897-488D-A24F-CED7BF78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1464-51CC-4046-B631-7F91A94A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4FE3-7B4D-441D-A7DF-9A99C177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08192-5992-4D86-B54E-56C0EAB4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33AE-A75B-4C36-9259-02F97F2B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4F58B-AB34-4B9F-A6D8-469E5C85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1E7E7-597E-4823-A315-1A8EED58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B1176-DC83-480F-88D4-A9A13E9D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4E4-C609-4D8E-BC53-6707DC69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FA54F-0B56-421D-B114-7CA11AD4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3D778-646C-4628-9676-D3D845C5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25235-B8FD-4F14-AC58-1D2F87DF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AFD63-983F-4EB1-B425-D633A64F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3349B-8244-4B5F-A7F9-61097924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230EE-EE60-418B-AC35-E3218AFE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91EE4-8507-479B-96C1-BCDBA8F2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6CC98-DBC9-4AA4-9C37-74F86BED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025E9-E649-42DA-B137-CCF88342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6E03F-C42E-4595-9FA6-E9F7BDE7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387-C36D-41C9-8041-528A3BD4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10B8A-1BB3-49DE-BF27-2449E3AA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873-7D36-451C-B8DA-56163366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4B5-1ABD-48E7-AF21-4BED9809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035-91FA-4E33-8A6C-31C7B378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2523-1843-4EF7-B1D9-73E167F14D4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1E17-F554-4EB6-9385-289E5AF411B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95C2-DDA9-451F-8523-A0C12687D1A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F847-5C1B-49E1-A302-3CBC9DAD583F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20B8-E74C-47AA-85CA-8B26BC2B8F18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e the least common multiple to write equivalent fractions if the denominators are not the sam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btract numerators.  If you cannot subtract numerators, then rename the first mixed numb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btract whole numbe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mplif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762120" y="175248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13716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37160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1371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3049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85800" y="255888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13716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3716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37160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>
            <a:off x="304920" y="3581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>
            <a:off x="2209680" y="2286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962520" y="175248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46483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46483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46483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2209680" y="3200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962520" y="259092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4648320" y="3156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648320" y="2698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4648320" y="3079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37339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4876920" y="4343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48769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487692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9"/>
          <p:cNvSpPr/>
          <p:nvPr/>
        </p:nvSpPr>
        <p:spPr>
          <a:xfrm>
            <a:off x="4114800" y="38545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2438280" y="5334120"/>
            <a:ext cx="3505320" cy="36828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nswer is in simples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133200" y="225360"/>
            <a:ext cx="8487000" cy="11527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914400" y="1523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152388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523880" y="1600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5238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533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914400" y="22701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1523880" y="2727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523880" y="2346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1523880" y="2727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380880" y="3352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3429000" y="1600200"/>
            <a:ext cx="2514600" cy="990720"/>
          </a:xfrm>
          <a:prstGeom prst="rect">
            <a:avLst/>
          </a:prstGeom>
          <a:solidFill>
            <a:srgbClr val="ecf03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6095880" y="1600200"/>
            <a:ext cx="2514600" cy="990720"/>
          </a:xfrm>
          <a:prstGeom prst="rect">
            <a:avLst/>
          </a:prstGeom>
          <a:solidFill>
            <a:srgbClr val="ecf03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1"/>
          <p:cNvSpPr/>
          <p:nvPr/>
        </p:nvSpPr>
        <p:spPr>
          <a:xfrm>
            <a:off x="3429000" y="2743200"/>
            <a:ext cx="2514600" cy="990720"/>
          </a:xfrm>
          <a:prstGeom prst="rect">
            <a:avLst/>
          </a:prstGeom>
          <a:solidFill>
            <a:srgbClr val="ecf03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23"/>
          <p:cNvGraphicFramePr/>
          <p:nvPr/>
        </p:nvGraphicFramePr>
        <p:xfrm>
          <a:off x="6095880" y="2708280"/>
          <a:ext cx="2590920" cy="101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708280"/>
                    <a:ext cx="25909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24"/>
          <p:cNvSpPr/>
          <p:nvPr/>
        </p:nvSpPr>
        <p:spPr>
          <a:xfrm>
            <a:off x="380880" y="3857760"/>
            <a:ext cx="4496040" cy="147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cture of three and one thi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take away one whole and five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 this, we need to rename to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6"/>
          <p:cNvSpPr/>
          <p:nvPr/>
        </p:nvSpPr>
        <p:spPr>
          <a:xfrm>
            <a:off x="655308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7"/>
          <p:cNvSpPr/>
          <p:nvPr/>
        </p:nvSpPr>
        <p:spPr>
          <a:xfrm>
            <a:off x="739152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822960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380880" y="5410080"/>
            <a:ext cx="4496040" cy="1334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e have two sixths, but we need to take away five sixths.  We don’t have enough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one whole to six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1"/>
          <p:cNvSpPr/>
          <p:nvPr/>
        </p:nvSpPr>
        <p:spPr>
          <a:xfrm>
            <a:off x="380988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2"/>
          <p:cNvSpPr/>
          <p:nvPr/>
        </p:nvSpPr>
        <p:spPr>
          <a:xfrm>
            <a:off x="426708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3"/>
          <p:cNvSpPr/>
          <p:nvPr/>
        </p:nvSpPr>
        <p:spPr>
          <a:xfrm>
            <a:off x="556272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4"/>
          <p:cNvSpPr/>
          <p:nvPr/>
        </p:nvSpPr>
        <p:spPr>
          <a:xfrm>
            <a:off x="472428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5"/>
          <p:cNvSpPr/>
          <p:nvPr/>
        </p:nvSpPr>
        <p:spPr>
          <a:xfrm>
            <a:off x="5181480" y="26668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5029200" y="3962520"/>
            <a:ext cx="38862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e can cross out five of the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7"/>
          <p:cNvSpPr/>
          <p:nvPr/>
        </p:nvSpPr>
        <p:spPr>
          <a:xfrm flipH="1">
            <a:off x="4723920" y="2743200"/>
            <a:ext cx="221004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8"/>
          <p:cNvSpPr/>
          <p:nvPr/>
        </p:nvSpPr>
        <p:spPr>
          <a:xfrm flipH="1" flipV="1">
            <a:off x="4723920" y="2743200"/>
            <a:ext cx="221004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5105520" y="4724280"/>
            <a:ext cx="3809880" cy="105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ubtracted the fractions.  Now subtract the wh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away one wh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0"/>
          <p:cNvSpPr/>
          <p:nvPr/>
        </p:nvSpPr>
        <p:spPr>
          <a:xfrm flipH="1">
            <a:off x="6248520" y="1676520"/>
            <a:ext cx="220968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1"/>
          <p:cNvSpPr/>
          <p:nvPr/>
        </p:nvSpPr>
        <p:spPr>
          <a:xfrm flipH="1" flipV="1">
            <a:off x="6248520" y="1676520"/>
            <a:ext cx="220968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2"/>
          <p:cNvSpPr/>
          <p:nvPr/>
        </p:nvSpPr>
        <p:spPr>
          <a:xfrm>
            <a:off x="5105520" y="5943600"/>
            <a:ext cx="380988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left with one whole and three sixth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914400" y="1523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>
            <a:off x="144792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523880" y="1600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523880" y="1981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533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914400" y="22701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1523880" y="2727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523880" y="2346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1523880" y="2727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2"/>
          <p:cNvSpPr/>
          <p:nvPr/>
        </p:nvSpPr>
        <p:spPr>
          <a:xfrm>
            <a:off x="380880" y="3352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243828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3886200" y="15843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5"/>
          <p:cNvSpPr/>
          <p:nvPr/>
        </p:nvSpPr>
        <p:spPr>
          <a:xfrm>
            <a:off x="44956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6"/>
          <p:cNvSpPr/>
          <p:nvPr/>
        </p:nvSpPr>
        <p:spPr>
          <a:xfrm>
            <a:off x="2362320" y="2819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3886200" y="2286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8"/>
          <p:cNvSpPr/>
          <p:nvPr/>
        </p:nvSpPr>
        <p:spPr>
          <a:xfrm>
            <a:off x="44956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9"/>
          <p:cNvSpPr/>
          <p:nvPr/>
        </p:nvSpPr>
        <p:spPr>
          <a:xfrm>
            <a:off x="3581280" y="34290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152280" y="3962520"/>
            <a:ext cx="2743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CM of 3 and 6 is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4572000" y="1981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45720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274320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45720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2743200" y="2529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4572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152280" y="4343400"/>
            <a:ext cx="2743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quivalent fractions, but we don’t have enough sixths to subtr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152280" y="5562720"/>
            <a:ext cx="27432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row from the whole number.  Rename the whole as six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9"/>
          <p:cNvSpPr/>
          <p:nvPr/>
        </p:nvSpPr>
        <p:spPr>
          <a:xfrm>
            <a:off x="3962520" y="175248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0"/>
          <p:cNvSpPr/>
          <p:nvPr/>
        </p:nvSpPr>
        <p:spPr>
          <a:xfrm>
            <a:off x="3886200" y="990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6781680" y="16002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7162920" y="1584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3"/>
          <p:cNvSpPr/>
          <p:nvPr/>
        </p:nvSpPr>
        <p:spPr>
          <a:xfrm>
            <a:off x="792468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4"/>
          <p:cNvSpPr/>
          <p:nvPr/>
        </p:nvSpPr>
        <p:spPr>
          <a:xfrm>
            <a:off x="80010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5"/>
          <p:cNvSpPr/>
          <p:nvPr/>
        </p:nvSpPr>
        <p:spPr>
          <a:xfrm>
            <a:off x="80010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6"/>
          <p:cNvSpPr/>
          <p:nvPr/>
        </p:nvSpPr>
        <p:spPr>
          <a:xfrm>
            <a:off x="5943600" y="3733920"/>
            <a:ext cx="2971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lready had two sixths, and now we have borrowed one whole, which is six more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7"/>
          <p:cNvSpPr/>
          <p:nvPr/>
        </p:nvSpPr>
        <p:spPr>
          <a:xfrm>
            <a:off x="5943600" y="4952880"/>
            <a:ext cx="2971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and six are eight. We now have eight six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8"/>
          <p:cNvSpPr/>
          <p:nvPr/>
        </p:nvSpPr>
        <p:spPr>
          <a:xfrm>
            <a:off x="4648320" y="17524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9"/>
          <p:cNvSpPr/>
          <p:nvPr/>
        </p:nvSpPr>
        <p:spPr>
          <a:xfrm>
            <a:off x="4800600" y="1600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0"/>
          <p:cNvSpPr/>
          <p:nvPr/>
        </p:nvSpPr>
        <p:spPr>
          <a:xfrm>
            <a:off x="5943600" y="5638680"/>
            <a:ext cx="2971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the fractions, then the whol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1"/>
          <p:cNvSpPr/>
          <p:nvPr/>
        </p:nvSpPr>
        <p:spPr>
          <a:xfrm>
            <a:off x="46483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2"/>
          <p:cNvSpPr/>
          <p:nvPr/>
        </p:nvSpPr>
        <p:spPr>
          <a:xfrm>
            <a:off x="4724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3"/>
          <p:cNvSpPr/>
          <p:nvPr/>
        </p:nvSpPr>
        <p:spPr>
          <a:xfrm>
            <a:off x="47242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4"/>
          <p:cNvSpPr/>
          <p:nvPr/>
        </p:nvSpPr>
        <p:spPr>
          <a:xfrm>
            <a:off x="4038480" y="36417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5"/>
          <p:cNvSpPr/>
          <p:nvPr/>
        </p:nvSpPr>
        <p:spPr>
          <a:xfrm>
            <a:off x="5943600" y="632448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6"/>
          <p:cNvSpPr/>
          <p:nvPr/>
        </p:nvSpPr>
        <p:spPr>
          <a:xfrm>
            <a:off x="3276720" y="49528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7"/>
          <p:cNvSpPr/>
          <p:nvPr/>
        </p:nvSpPr>
        <p:spPr>
          <a:xfrm>
            <a:off x="3886200" y="50133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44197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4956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44956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838080" y="16002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"/>
          <p:cNvSpPr/>
          <p:nvPr/>
        </p:nvSpPr>
        <p:spPr>
          <a:xfrm>
            <a:off x="137160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13716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37160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838080" y="242244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1371600" y="2879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1371600" y="249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1371600" y="2879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1"/>
          <p:cNvSpPr/>
          <p:nvPr/>
        </p:nvSpPr>
        <p:spPr>
          <a:xfrm>
            <a:off x="53352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2"/>
          <p:cNvSpPr/>
          <p:nvPr/>
        </p:nvSpPr>
        <p:spPr>
          <a:xfrm>
            <a:off x="228600" y="3429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3"/>
          <p:cNvSpPr/>
          <p:nvPr/>
        </p:nvSpPr>
        <p:spPr>
          <a:xfrm>
            <a:off x="2133720" y="2057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4"/>
          <p:cNvSpPr/>
          <p:nvPr/>
        </p:nvSpPr>
        <p:spPr>
          <a:xfrm>
            <a:off x="3352680" y="158436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6"/>
          <p:cNvSpPr/>
          <p:nvPr/>
        </p:nvSpPr>
        <p:spPr>
          <a:xfrm>
            <a:off x="396252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7"/>
          <p:cNvSpPr/>
          <p:nvPr/>
        </p:nvSpPr>
        <p:spPr>
          <a:xfrm>
            <a:off x="213372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3352680" y="2346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9"/>
          <p:cNvSpPr/>
          <p:nvPr/>
        </p:nvSpPr>
        <p:spPr>
          <a:xfrm>
            <a:off x="396252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0"/>
          <p:cNvSpPr/>
          <p:nvPr/>
        </p:nvSpPr>
        <p:spPr>
          <a:xfrm>
            <a:off x="2971800" y="3429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1"/>
          <p:cNvSpPr/>
          <p:nvPr/>
        </p:nvSpPr>
        <p:spPr>
          <a:xfrm>
            <a:off x="0" y="3809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CM of 2 and 7 is 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2"/>
          <p:cNvSpPr/>
          <p:nvPr/>
        </p:nvSpPr>
        <p:spPr>
          <a:xfrm>
            <a:off x="3886200" y="198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38862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4"/>
          <p:cNvSpPr/>
          <p:nvPr/>
        </p:nvSpPr>
        <p:spPr>
          <a:xfrm>
            <a:off x="228600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396252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6"/>
          <p:cNvSpPr/>
          <p:nvPr/>
        </p:nvSpPr>
        <p:spPr>
          <a:xfrm>
            <a:off x="2362320" y="2590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7"/>
          <p:cNvSpPr/>
          <p:nvPr/>
        </p:nvSpPr>
        <p:spPr>
          <a:xfrm>
            <a:off x="388620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8"/>
          <p:cNvSpPr/>
          <p:nvPr/>
        </p:nvSpPr>
        <p:spPr>
          <a:xfrm>
            <a:off x="152280" y="41911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o not have enough fourteenths, so we must borrow from th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9"/>
          <p:cNvSpPr/>
          <p:nvPr/>
        </p:nvSpPr>
        <p:spPr>
          <a:xfrm>
            <a:off x="3352680" y="175248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0"/>
          <p:cNvSpPr/>
          <p:nvPr/>
        </p:nvSpPr>
        <p:spPr>
          <a:xfrm>
            <a:off x="3352680" y="914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1"/>
          <p:cNvSpPr/>
          <p:nvPr/>
        </p:nvSpPr>
        <p:spPr>
          <a:xfrm>
            <a:off x="64008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2"/>
          <p:cNvSpPr/>
          <p:nvPr/>
        </p:nvSpPr>
        <p:spPr>
          <a:xfrm>
            <a:off x="68580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3"/>
          <p:cNvSpPr/>
          <p:nvPr/>
        </p:nvSpPr>
        <p:spPr>
          <a:xfrm>
            <a:off x="76201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4"/>
          <p:cNvSpPr/>
          <p:nvPr/>
        </p:nvSpPr>
        <p:spPr>
          <a:xfrm>
            <a:off x="7696080" y="990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5"/>
          <p:cNvSpPr/>
          <p:nvPr/>
        </p:nvSpPr>
        <p:spPr>
          <a:xfrm>
            <a:off x="76960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6"/>
          <p:cNvSpPr/>
          <p:nvPr/>
        </p:nvSpPr>
        <p:spPr>
          <a:xfrm>
            <a:off x="4038480" y="175248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7"/>
          <p:cNvSpPr/>
          <p:nvPr/>
        </p:nvSpPr>
        <p:spPr>
          <a:xfrm>
            <a:off x="426708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8"/>
          <p:cNvSpPr/>
          <p:nvPr/>
        </p:nvSpPr>
        <p:spPr>
          <a:xfrm>
            <a:off x="403848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9"/>
          <p:cNvSpPr/>
          <p:nvPr/>
        </p:nvSpPr>
        <p:spPr>
          <a:xfrm>
            <a:off x="40384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0"/>
          <p:cNvSpPr/>
          <p:nvPr/>
        </p:nvSpPr>
        <p:spPr>
          <a:xfrm>
            <a:off x="40384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1"/>
          <p:cNvSpPr/>
          <p:nvPr/>
        </p:nvSpPr>
        <p:spPr>
          <a:xfrm>
            <a:off x="3352680" y="35812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2"/>
          <p:cNvSpPr/>
          <p:nvPr/>
        </p:nvSpPr>
        <p:spPr>
          <a:xfrm>
            <a:off x="0" y="54100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nswer is in simples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f you are subtracting a mixed number from a whole number, then rename the whole numbe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orrow one whole and use the denominator from the fracti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3"/>
          <p:cNvSpPr/>
          <p:nvPr/>
        </p:nvSpPr>
        <p:spPr>
          <a:xfrm>
            <a:off x="990720" y="150804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"/>
          <p:cNvSpPr/>
          <p:nvPr/>
        </p:nvSpPr>
        <p:spPr>
          <a:xfrm>
            <a:off x="6858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990720" y="22701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380880" y="3352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16002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16002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160020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1"/>
          <p:cNvSpPr/>
          <p:nvPr/>
        </p:nvSpPr>
        <p:spPr>
          <a:xfrm>
            <a:off x="1066680" y="16765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990720" y="914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5562720" y="1143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5943600" y="1143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5"/>
          <p:cNvSpPr/>
          <p:nvPr/>
        </p:nvSpPr>
        <p:spPr>
          <a:xfrm>
            <a:off x="66294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6781680" y="1066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678168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5105520" y="274320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hoose eight eighths because the denominator of the fraction is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9"/>
          <p:cNvSpPr/>
          <p:nvPr/>
        </p:nvSpPr>
        <p:spPr>
          <a:xfrm>
            <a:off x="1447920" y="182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0"/>
          <p:cNvSpPr/>
          <p:nvPr/>
        </p:nvSpPr>
        <p:spPr>
          <a:xfrm>
            <a:off x="160020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160020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2"/>
          <p:cNvSpPr/>
          <p:nvPr/>
        </p:nvSpPr>
        <p:spPr>
          <a:xfrm>
            <a:off x="1676520" y="4191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1752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4"/>
          <p:cNvSpPr/>
          <p:nvPr/>
        </p:nvSpPr>
        <p:spPr>
          <a:xfrm>
            <a:off x="175248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990720" y="36417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Program Files\Common Files\Microsoft Shared\Clipart\cagcat50\BL00347_.wmf"/>
          <p:cNvPicPr/>
          <p:nvPr/>
        </p:nvPicPr>
        <p:blipFill>
          <a:blip r:embed="rId2"/>
          <a:stretch/>
        </p:blipFill>
        <p:spPr>
          <a:xfrm>
            <a:off x="2840040" y="1693800"/>
            <a:ext cx="34639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1:39Z</dcterms:created>
  <dc:creator>Josh Hammond</dc:creator>
  <dc:description/>
  <dc:language>en-US</dc:language>
  <cp:lastModifiedBy>Home</cp:lastModifiedBy>
  <dcterms:modified xsi:type="dcterms:W3CDTF">2010-11-14T16:03:30Z</dcterms:modified>
  <cp:revision>23</cp:revision>
  <dc:subject/>
  <dc:title>Subtracting Mixed Numbers</dc:title>
</cp:coreProperties>
</file>